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828-EACB-4FB6-9339-B24789C0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C73-0B48-47EF-8626-3BD1609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074-39D5-46BF-BD88-6654AB6C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CB1-D5A4-47AB-925E-FE89E988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60A-C0DC-4109-AB5A-669DF632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D1C-3159-463B-8376-2E52A671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1DAF-62F1-4F73-94A5-5D1398CE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488-F51D-4AAB-9266-8C0BAAC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7480-D067-41A9-B883-55A25026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EC5F-D772-4B05-8596-6D0A284A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270-7D5D-4E05-AA75-2FC66B8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A00-2E47-484E-9DDB-E3626FA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1A9-C276-48D7-8288-AABC4E0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C89-5438-4FF3-B542-33CDE53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874D-E210-44C3-8432-1DDC974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4AC-6567-4FC3-81A8-AD405891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7F23-0564-493E-B083-9178D00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9E2-3E23-4A14-841B-8034EDAD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D3C-137B-46B3-AD27-E83B5B2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ADE-B5F7-47A3-B29C-D3EB6FE2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780-CC89-40E8-820D-74162A6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5C0-76D4-4B7E-ACC0-5FB55EB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901-88DB-46CA-9DF1-D908268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B81-8231-4228-B4FF-70D4607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D16-D02C-4F77-8994-647792125F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BD3-A3D7-461E-93E4-DB94B7B6B9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ive Us A 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 5, Lesson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Samuel 19:41-21: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ges 94-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33840" y="1522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2133360" y="1066680"/>
            <a:ext cx="48006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3840" y="31240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60958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In these sketches, the buildings are scraped off the rock. Notice the area in the next slide WITH bui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680"/>
            <a:ext cx="8763120" cy="6789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vid’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560" y="12193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ter, The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Rebellion of Sh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ntion/jealousy between Judah and Israel about bringing back the k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19:41-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rebelled against Davi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20:1-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turned to Jerusalem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te of the ten concubines left in the 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e the distinction now between Israel and Judah; 10 parts to one p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Purs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42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asa sent to assemble the men of Judah, v. 4-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n the meantime, Abishai sent to pursue after Sheba, v. 20:6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bypasses Joab a second ti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ab killed Amasa, v. 8-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ab reassumed command of the ar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asa’s body pulled off the r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Sla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fled to Abel of Beth-maacah, v. 14-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ise woman negotiated with Joab, v. 16-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. 20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organized his officers,       v. 23-26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ighting Some Wro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 for 3-year famine, v. 21: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ong to Gibeonites avenged, v. 2-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d 7 sons of Sa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phibosheth spared due to o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ul’s other 2 sons and 5 grandsons offered to the Gibeonites and 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buried the bones of Saul &amp; Jonathan with the seven, v. 10-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’s justice was satisfied, v. 14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2:31:44Z</dcterms:created>
  <dc:creator>Terry W. Benton</dc:creator>
  <dc:description/>
  <dc:language>en-US</dc:language>
  <cp:lastModifiedBy>Frank D Vines</cp:lastModifiedBy>
  <dcterms:modified xsi:type="dcterms:W3CDTF">2005-07-19T14:06:16Z</dcterms:modified>
  <cp:revision>12</cp:revision>
  <dc:subject/>
  <dc:title>Give Us A King</dc:title>
</cp:coreProperties>
</file>